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wind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click.wav" ContentType="audio/x-wav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5BBD-D315-4688-ACAC-B823090B86D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мы презентации 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анье металла слесарной ножов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а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93EF-3114-43C0-8362-BE40AE7EAE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  человека корми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Лень портит!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мелые руки не знают,      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уки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D131-EC99-421D-B067-DAD222198D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зание металла слесарной ножовко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зрезания заготовок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ртового проката применя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чную слесарную ножов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тно ножовки – тонкая 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из твердой стали, на од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мке которой нанесены зуб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овидной формы. Кажд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ь надежно закреплено в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е натяжным винтом, а зуб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авлены в сторону, проти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ную ру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D5F4-455A-4C9F-B860-81B51BDDB5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ь полосовой материал т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 том случае, если на 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щину укладывается 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олее зубьев полотна. 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е тонкий материал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ют между деревян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у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FC97-7014-4F2D-A8F2-962C2C1E15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разрезании дли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готовок не всег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ку наклоняют слегка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015C-9BD2-4A50-8D7C-DA8F09C783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нужно прин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ельную позу: стать вполоб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а к тискам, левую ногу пос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ь вперед и ступни распол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ть под углом друг к другу. 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овку во время резания держа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мя руками. Перемещение ос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ствляется только руками,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 остается неподвиж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зволяет экономить сил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высокое ка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191B-7CA7-41B1-8784-02358C4C49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ножовки впе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рабочим, т.к. в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зубья полотна реж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, а движение наза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стым. При движ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жовки вперед ее слег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мают вниз, обра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ыполняют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жима. Ход ножовки до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 быть полным, чт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тно изнашивалось ра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ерно по всей дли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ь ножовку нуж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но, без рывков, р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58E0-ADF6-45A0-A880-5A68459D93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убка мет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ой разделяют заготовку на части, удаляют лишний металл(припуск). Осущест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яется эта операция с п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ью зубила и мол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ущая часть зубила, ка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го другого реж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, имеет фор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а. Угол заострения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ит от твердости обраб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ваемого металла: чем тверже металл, там угол з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ния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483A-2D48-4AF1-B4A4-3EA8291B50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97EF-040F-41DC-8DE8-06E04EBAB7B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ило и молоток держат так, чтобы ударная часть и край р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ятки выступали на 15…3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бку в тисках можно выполня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2E05-5382-4DD9-BAB3-B5B1D1E78F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9E5-EA2F-49D8-89F2-BDD626FD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E90-BE36-4301-B69B-FF22887D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EE7-A231-439B-96DC-7863B1CB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F1B-C1D6-4906-88A4-F108B1AA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097AE-A169-435E-9DD0-11536D1B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6825D-59C0-494E-B94E-C7F179A5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FDD36-BAEE-449E-968E-A96450BD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F98C1-16F9-4E12-9209-955E9CE6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865D9-C652-48D9-A765-4DE78F7E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6D26B-4EA5-45DB-B965-CDDE3455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8C090-2A52-4B20-9058-3CAF3CF7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C7A-A6EE-4B94-B67C-37A8BED6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9E11A-EC96-4CBD-936A-9B0183B5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762EB-4ED8-4D96-9FCA-1919BEAE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2DD1F-1F78-49DA-B2B6-2EC04F2A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9E9F8-53E9-49E8-A84C-902CE270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D651F-4CFF-4CD3-905F-B46B6097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FB4-453F-451F-9590-FE1DF4EC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436-63C5-4019-9CED-B94CD81A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1B1-305E-4116-B3DC-7CD86D91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E7D-90C5-44D0-9C1B-50C2FC7D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8A9-8C1D-4A9F-B482-37DF62C8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1572-96AE-4C33-809F-72626872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744-0D9C-4369-BEF1-A29DF17B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29E7-DD96-4F69-95F6-C69B216B6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2981-3A7C-44B9-88D6-DC486E3A83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audio" Target="file:///tmp/home/.config/libreoffice/4/user/gallery/click.wav" TargetMode="External"/><Relationship Id="rId4" Type="http://schemas.microsoft.com/office/2007/relationships/media" Target="file:///tmp/home/.config/libreoffice/4/user/gallery/click.wav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емы презентации 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анье металла слесарной ножов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бка мет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7396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Труд  человека кормит,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 Лень портит!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мелые руки не знают,   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куки!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56000" y="3186000"/>
            <a:ext cx="4788000" cy="367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connected_multiple"/>
          <p:cNvPicPr/>
          <p:nvPr/>
        </p:nvPicPr>
        <p:blipFill>
          <a:blip r:embed="rId1"/>
          <a:stretch/>
        </p:blipFill>
        <p:spPr>
          <a:xfrm>
            <a:off x="5076720" y="3789360"/>
            <a:ext cx="3856320" cy="28796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3132000" y="2708280"/>
            <a:ext cx="432000" cy="433440"/>
          </a:xfrm>
          <a:custGeom>
            <a:avLst/>
            <a:gdLst>
              <a:gd name="textAreaLeft" fmla="*/ 100800 w 432000"/>
              <a:gd name="textAreaRight" fmla="*/ 331200 w 432000"/>
              <a:gd name="textAreaTop" fmla="*/ 45720 h 433440"/>
              <a:gd name="textAreaBottom" fmla="*/ 274320 h 433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580000" y="2349360"/>
            <a:ext cx="289080" cy="432000"/>
          </a:xfrm>
          <a:custGeom>
            <a:avLst/>
            <a:gdLst>
              <a:gd name="textAreaLeft" fmla="*/ 67320 w 289080"/>
              <a:gd name="textAreaRight" fmla="*/ 221760 w 28908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332000" y="3141720"/>
            <a:ext cx="360360" cy="287280"/>
          </a:xfrm>
          <a:custGeom>
            <a:avLst/>
            <a:gdLst>
              <a:gd name="textAreaLeft" fmla="*/ 83880 w 360360"/>
              <a:gd name="textAreaRight" fmla="*/ 276480 w 360360"/>
              <a:gd name="textAreaTop" fmla="*/ 30240 h 287280"/>
              <a:gd name="textAreaBottom" fmla="*/ 181800 h 287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3419640" y="4653000"/>
            <a:ext cx="433080" cy="431640"/>
          </a:xfrm>
          <a:custGeom>
            <a:avLst/>
            <a:gdLst>
              <a:gd name="textAreaLeft" fmla="*/ 100800 w 433080"/>
              <a:gd name="textAreaRight" fmla="*/ 331920 w 433080"/>
              <a:gd name="textAreaTop" fmla="*/ 45360 h 431640"/>
              <a:gd name="textAreaBottom" fmla="*/ 273240 h 431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708360" y="549360"/>
            <a:ext cx="433440" cy="360360"/>
          </a:xfrm>
          <a:custGeom>
            <a:avLst/>
            <a:gdLst>
              <a:gd name="textAreaLeft" fmla="*/ 100800 w 433440"/>
              <a:gd name="textAreaRight" fmla="*/ 332280 w 43344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6948000" y="907920"/>
            <a:ext cx="71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524720" y="5734080"/>
            <a:ext cx="790560" cy="79056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3"/>
          <p:cNvSpPr/>
          <p:nvPr/>
        </p:nvSpPr>
        <p:spPr>
          <a:xfrm>
            <a:off x="971640" y="5157720"/>
            <a:ext cx="504720" cy="432000"/>
          </a:xfrm>
          <a:custGeom>
            <a:avLst/>
            <a:gdLst>
              <a:gd name="textAreaLeft" fmla="*/ 117720 w 504720"/>
              <a:gd name="textAreaRight" fmla="*/ 387000 w 504720"/>
              <a:gd name="textAreaTop" fmla="*/ 45360 h 432000"/>
              <a:gd name="textAreaBottom" fmla="*/ 273600 h 43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6804000" y="981000"/>
            <a:ext cx="432000" cy="360360"/>
          </a:xfrm>
          <a:custGeom>
            <a:avLst/>
            <a:gdLst>
              <a:gd name="textAreaLeft" fmla="*/ 100800 w 432000"/>
              <a:gd name="textAreaRight" fmla="*/ 331200 w 43200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0" y="476280"/>
            <a:ext cx="395280" cy="360360"/>
          </a:xfrm>
          <a:custGeom>
            <a:avLst/>
            <a:gdLst>
              <a:gd name="textAreaLeft" fmla="*/ 92160 w 395280"/>
              <a:gd name="textAreaRight" fmla="*/ 303120 w 39528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71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езание металла слесарной ножовкой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разрезания заготовок и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ртового проката применя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чную слесарную ножов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тно ножовки – тонкая л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 из твердой стали, на од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ке которой нанесены зубь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иновидной формы. Кажд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уб представляет резец. Ножовочное полотно дол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ыть надежно закреплено в рам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е натяжным винтом, а зубь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равлены в сторону, против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ожную ру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2" descr="kozm_sles_67"/>
          <p:cNvPicPr/>
          <p:nvPr/>
        </p:nvPicPr>
        <p:blipFill>
          <a:blip r:embed="rId1"/>
          <a:stretch/>
        </p:blipFill>
        <p:spPr>
          <a:xfrm>
            <a:off x="4643280" y="1916280"/>
            <a:ext cx="403236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333360"/>
            <a:ext cx="41749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тупая к работе, следует отрегулировать натяжения полотна в ножовочной рамке и прочно закрепить заготовку в тисках. Слишком сильное натяжение полотна, как и слишком слабое, может привести к его поломке. По разметочной риске делают неглубокий пропил трехгранным напильником. Это обеспечит точное направление движения полотна. Ножовкой можно 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ть полосовой материал то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 в том случае, если на е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щину укладывается т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более зубьев полотна. 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е тонкий материал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яют между деревянным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рус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kozm_sles_67_1"/>
          <p:cNvPicPr/>
          <p:nvPr/>
        </p:nvPicPr>
        <p:blipFill>
          <a:blip r:embed="rId1"/>
          <a:stretch/>
        </p:blipFill>
        <p:spPr>
          <a:xfrm>
            <a:off x="4716360" y="333360"/>
            <a:ext cx="4248360" cy="4535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lick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разрезании длинны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готовок не всегд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удается довести резание до конца из-за тог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то рамка станка упирается в их торец.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олотно поворачивается по отношению к рам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е на 90С и продолжают работу. Заготовки ф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онного профиля( уголок, швеллер и др.) пр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зрезании ножовкой рекомендуется закреп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лять в деревянных нагубниках. В начале разр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зания полосового и квадратного проката ножов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у наклоняют слегка впере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st_11_4"/>
          <p:cNvPicPr/>
          <p:nvPr/>
        </p:nvPicPr>
        <p:blipFill>
          <a:blip r:embed="rId1"/>
          <a:stretch/>
        </p:blipFill>
        <p:spPr>
          <a:xfrm>
            <a:off x="5219640" y="1125360"/>
            <a:ext cx="3414600" cy="3527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 время работы нужно приня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авельную позу: стать вполоб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та к тискам, левую ногу пост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ь вперед и ступни распол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ить под углом друг к другу. Но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вку во время резания держа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умя руками. Перемещение осу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ствляется только руками, 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рпус остается неподвиж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позволяет экономить силы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ивает высокое качест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" name="Organization Chart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1" name="Picture 27" descr="kozm_sles_67_1"/>
          <p:cNvPicPr/>
          <p:nvPr/>
        </p:nvPicPr>
        <p:blipFill>
          <a:blip r:embed="rId1"/>
          <a:stretch/>
        </p:blipFill>
        <p:spPr>
          <a:xfrm>
            <a:off x="4356000" y="476280"/>
            <a:ext cx="4788000" cy="6121440"/>
          </a:xfrm>
          <a:prstGeom prst="rect">
            <a:avLst/>
          </a:prstGeom>
          <a:ln w="9360">
            <a:solidFill>
              <a:srgbClr val="010199"/>
            </a:solidFill>
            <a:miter/>
          </a:ln>
        </p:spPr>
      </p:pic>
      <p:sp>
        <p:nvSpPr>
          <p:cNvPr id="112" name="AutoShape 28"/>
          <p:cNvSpPr/>
          <p:nvPr/>
        </p:nvSpPr>
        <p:spPr>
          <a:xfrm>
            <a:off x="6443640" y="3716280"/>
            <a:ext cx="2449440" cy="2017800"/>
          </a:xfrm>
          <a:prstGeom prst="leftArrow">
            <a:avLst>
              <a:gd name="adj1" fmla="val 50000"/>
              <a:gd name="adj2" fmla="val 30348"/>
            </a:avLst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29"/>
          <p:cNvSpPr/>
          <p:nvPr/>
        </p:nvSpPr>
        <p:spPr>
          <a:xfrm rot="1432800">
            <a:off x="5148000" y="1413000"/>
            <a:ext cx="936360" cy="1152360"/>
          </a:xfrm>
          <a:prstGeom prst="downArrow">
            <a:avLst>
              <a:gd name="adj1" fmla="val 30407"/>
              <a:gd name="adj2" fmla="val 7494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1619280" y="260280"/>
            <a:ext cx="417672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Это важн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4248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ножовки впер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яется рабочим, т.к. в э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мя зубья полотна режу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алл, а движение назад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лостым. При движен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жовки вперед ее слегк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жимают вниз, обратн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жение выполняют б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жима. Ход ножовки дол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н быть полным, чтоб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отно изнашивалось ра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мерно по всей длин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игать ножовку нуж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лавно, без рывков, ри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ч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cd_sam_297"/>
          <p:cNvPicPr/>
          <p:nvPr/>
        </p:nvPicPr>
        <p:blipFill>
          <a:blip r:embed="rId1"/>
          <a:stretch/>
        </p:blipFill>
        <p:spPr>
          <a:xfrm>
            <a:off x="4572000" y="333360"/>
            <a:ext cx="4392720" cy="561672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Tahoma"/>
              </a:rPr>
              <a:t>Рубка металл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614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бкой разделяют заготовку на части, удаляют лишний металл(припуск). Осуществ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яется эта операция с п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щью зубила и молот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жущая часть зубила, как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го другого режущ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румента, имеет фор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ина. Угол заострения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исит от твердости обраб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ваемого металла: чем тверже металл, там угол за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трения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932360" y="1700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tb_714"/>
          <p:cNvPicPr/>
          <p:nvPr/>
        </p:nvPicPr>
        <p:blipFill>
          <a:blip r:embed="rId1"/>
          <a:stretch/>
        </p:blipFill>
        <p:spPr>
          <a:xfrm>
            <a:off x="5005440" y="72396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рубкой заготовку закрепляют в тисках немного левее правого края губок, чтобы оставалось место для установки зубила. Молоток бойком влево кладут на верстак справа от тисков, а зубило- слева, режущей частью на себя. На рабочем месте для рубки должна быть установлена защитная сетка(или экран) для защиты окружающих от осколков метал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ремя рубки очень важно принять правильную рабочую позу. Стоять следует прямо, корпус тела должен быть развернут по отношению к тискам, правое плечо должно находиться против головки зубила. Левая нога для устойчивости должна быть выдвинута вперед, тело опирается на правую ног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4316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убило и молоток держат так, чтобы ударная часть и край ру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ятки выступали на 15…30 м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бку в тисках можно выполня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разметочным рискам и по уровню губок тисков. В первом случае заготовку устанавлива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ют так, чтобы разметочная риска находилась на 1,5…2 мм выше губок тисков. Зубило помещают под углом 30…40 к обрабатываемой поверхности. После каждого удара зубило возвращают в исходное полож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kozm_sles_72 "/>
          <p:cNvPicPr/>
          <p:nvPr/>
        </p:nvPicPr>
        <p:blipFill>
          <a:blip r:embed="rId1"/>
          <a:stretch/>
        </p:blipFill>
        <p:spPr>
          <a:xfrm>
            <a:off x="5003640" y="620640"/>
            <a:ext cx="414036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3:38:42Z</dcterms:created>
  <dc:creator>Миша и Саша</dc:creator>
  <dc:description/>
  <dc:language>en-US</dc:language>
  <cp:lastModifiedBy>LEGION</cp:lastModifiedBy>
  <dcterms:modified xsi:type="dcterms:W3CDTF">2015-03-31T08:35:19Z</dcterms:modified>
  <cp:revision>7</cp:revision>
  <dc:subject/>
  <dc:title>Темы презентац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